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C894-B175-4AF3-B1B1-801F4CD3A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9491-7FB1-4D13-AA38-9B3505DD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C529-2437-4384-81AD-C5252457C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2CC9-C07C-440A-9979-CEA2DF6EA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8076-07E5-4B07-B162-13DA1899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D92E-5C7D-4612-892A-94FC4964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777B-3408-4A86-B90C-29D8DA57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2AC4-850C-4CE0-861F-F3586132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A8C7-71F3-400A-A0BA-3D1E8332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1EE0-AD36-4614-9001-E980AFAE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7280-40F8-4AB6-A066-33374A21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9153-75BC-4FB0-9876-A148A4AA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3555-22BC-4F99-80A5-3734F65035C7}" type="datetime">
              <a:rPr b="0" lang="es-ES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ctualización en Conosr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AB16-B983-4FB8-B1D2-D3BB9C833B6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6515-CEF8-404B-BC2C-A49F5674506C}" type="datetime">
              <a:rPr b="0" lang="es-ES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ctualización en Consor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6E09-4430-42E8-938C-629DE1CA534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RESUMEN NORM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Ley (CBA) N° 941 texto conforme Leyes N° 3254 y 329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Decreto N° 551/10 – BOCBA 20/7/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Disposición (DGDyPC) N° 6013/09, 230/10 y 1423/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0T15:41:59Z</dcterms:created>
  <dc:creator>DR. LEOPOLDO GUROVICH</dc:creator>
  <dc:description/>
  <dc:language>en-US</dc:language>
  <cp:lastModifiedBy>Your User Name</cp:lastModifiedBy>
  <dcterms:modified xsi:type="dcterms:W3CDTF">2010-08-11T14:55:13Z</dcterms:modified>
  <cp:revision>6</cp:revision>
  <dc:subject/>
  <dc:title>RESUMEN NORMATIVO RPA</dc:title>
</cp:coreProperties>
</file>